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B986-948D-4B1F-81A0-876A436B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FEC-9773-4A1B-BB6F-9E860AA2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BCC2-CE2E-4555-A48E-ABBD88D5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87A-763F-4E8D-BC93-069FD664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5B7-7BB7-4F3C-9657-58B44905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9141-5CAA-4925-9668-A524C273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B5D0-88E3-4962-A310-A357D594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B60-7769-4D83-B103-B5E4897F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359F-041F-4A83-B760-6D05DBD0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7ABD-D7C0-40F1-87B9-E9472EC2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BB1-F311-4C80-9E51-FC3091A4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9AB-5E34-47BC-B6A6-9A5F5D1E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9999-D502-4A5D-8854-CA8F6A216D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D0775DB9-1FB9-439A-A90A-D0DAADED5C39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СТЕРСТВО НАУКИ И ВЫСШЕГО ОБРАЗОВАНИЯ РОССИЙСКОЙ ФЕДЕРАЦИ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едеральное государственное бюджетное образовательное учреждение высшего образования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Рязанский государственный радиотехнический университет имени В.Ф. Уткина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федра промышленной электро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0" y="155736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выпускной квалификационной работе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выпускной квалификационной рабо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0" y="4292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ийся: студент гр. 723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тров И.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ель: к.т.н., доцен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оров А.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язань, 20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6B075BF1-AC63-4C35-9DF6-EEF34F8C50B0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воды по рабо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4DFFF66C-8811-4AAF-9984-314AA639A261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0" y="11160"/>
            <a:ext cx="91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убликации по работе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0" y="9810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робация результатов работы производилас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2-х конференци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0" y="371628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работы были опубликованы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2-х научных стать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FC96C71D-B11D-4DFE-8653-2F3781453B3F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0" y="335772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ная новизна работы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DBB34963-9AF1-4C3E-B371-BCBA6E2EEC4B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и задачи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61112327-D91C-4AC1-8E70-485A22013135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оретическая часть (кратк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8467565A-236D-447D-B1DD-41A173AE8A21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четная часть (кратк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C1E94F69-835D-4974-865F-D04C10776D19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D5230EF1-2EC7-4F68-9BFF-63633B83195C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CE410721-5651-4A6D-AD92-CD405710D81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A5CBB8F4-1756-4899-A528-A5D12E4055E6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6:13:54Z</dcterms:created>
  <dc:creator>Пользователь Windows</dc:creator>
  <dc:description/>
  <dc:language>en-US</dc:language>
  <cp:lastModifiedBy>ASUS</cp:lastModifiedBy>
  <dcterms:modified xsi:type="dcterms:W3CDTF">2019-06-20T03:33:41Z</dcterms:modified>
  <cp:revision>23</cp:revision>
  <dc:subject/>
  <dc:title>МИНИСТЕРСТВО НАУКИ И ВЫСШЕГО ОБРАЗОВАНИЯ  РОССИЙСКОЙ ФЕДЕРАЦИИ Федеральное государственное бюджетное образовательное учреждение  высшего образования  «Рязанский государственный радиотехнический университет имени В.Ф. Уткина» Кафедра промышленной электроники</dc:title>
</cp:coreProperties>
</file>